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507A-96D5-4021-9AB6-6E1C15D7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9BF-2C9A-41BE-AA01-2A16F3A3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9137F1-BD3E-4BC8-ACC8-96E91BA69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B0DC16-ED77-4163-9893-0E6EE8EC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3533DB-EE07-41F2-B6D7-96DC106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449589-1D2C-4BF4-9D3B-5C01841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56332F-A909-4FD8-AFFF-01733517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30013E-1D7C-4CB5-A45F-FCFA2D989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84D16-D74F-46A3-ADF6-0456FD32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6BB8FF-CB06-4AD7-BB3E-930E5B2D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420E8B-0483-4C06-A02E-1237418DB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179C6D-9121-41BD-9EEF-7595F009B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1289-96BC-4890-9BD3-411CE310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95EFFB-4EA9-419F-8261-A96A270E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2429DE-359A-4B58-980D-9A6B351B7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6FE8A6-374C-4D73-9FFC-1F34A24E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6004BF-4A76-4670-84AF-B1616AD36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029B922-FA15-4B18-903D-EBB012CA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1C5F3-78DF-43F8-A989-795F996C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DA1E9B-96BF-4A1E-8F5C-70B57679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A81B6F-2948-4082-8B8E-C7192E1D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95E66E-25D8-4740-A8FB-2C2E9CB9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BC37B-17CA-4387-B89E-C9BAC727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98FB-E0B1-4145-AB66-5793A1C22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B143DA-B5EE-43EB-A7F3-A0995AB2D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F061AFA-1DD3-4040-8EB7-A3066C5E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D750DD-2CFC-4BB1-8ADD-1857F7D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E628D1F-B471-4972-9735-B985C6B8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3D8D648-B8F9-4D8A-B52D-036F8A19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C6A7947-869A-45B8-9907-CAC62D4BE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5D6887-6717-461F-8544-656E2E721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13169F5A-06E9-4E18-AF34-6F1BD115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EE73DD4-F22D-4894-9D44-E7E02100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577C17A-5BEB-4BD2-800B-29EC02BB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B662807-4DC9-4E7C-9FA6-A3595475D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D862C4F-75D6-44C2-BE6D-BB021C96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27AEF1-26AD-4AD2-B7D8-261E9699F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FB0AA9B-F593-4044-825B-532E467B3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E7D407-67A2-4961-B687-B3539463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6EFF9-CCCD-42E1-BBC4-800AA052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FA4B4-4118-448F-B199-060514439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F3906A-E5B8-406E-96ED-B755A93B3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DD280-3933-44EE-BF5F-1002BE4F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89265D-7206-423A-A556-E274AF438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17BCE5-D9E0-4190-90E4-F766EC10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8AC008-B93D-41CB-A656-8C0DE865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4BC932-FCFA-445D-92D0-DE01BB998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AE76413-4DB0-4036-B482-73430AD53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82D689-3EF4-4DE1-A5EB-AE1DA7ED8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6E68BA8-C3CC-4BB9-881F-FF103C89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0232D62-969C-438A-88D1-79DFD461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F57B65-F5EA-4CC2-9D35-1FF43E29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D4FD3C2-BC46-472F-8036-DCBAE877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57FC246-FE1C-44A7-BDB7-2962443A9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3C51ABA-D1C3-4D7D-8D9F-F47694548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BE3320-3CC3-4155-8B60-5F88A3492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1AF1D04-288F-4075-B569-96C39786F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CECA877-A6BC-40B4-A0EF-BB3646B6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6EB28C0-7B1F-4166-B05D-C109154B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D459867-7AE6-42DA-8D60-1E9182D34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E2FDDFF-8B0E-4DEF-BF29-5D9CFFF53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D6260D5-72EE-4D55-BDC8-CDD0CC800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4D0C97-B99D-4AF4-A3AC-3C7FFF57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68705A-674F-485C-9BC1-D45CEF39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E5DD4-8005-411D-82E2-94231724E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EC7570-4CAA-41BD-8B95-C532B828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988148-FD50-4719-BBD7-C6C9B616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CEED5B-6C0E-4FA6-ABEC-4D8DD789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896DA5-7D99-4201-A159-CA9EA7D6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84BB5A-3126-47B7-BBA1-6586B3E0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00312-916B-4667-A386-6C728B38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CA732A-6B35-4F9E-B9C2-D8AB161D0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5132BE-97BB-4C94-8A50-F792843EC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38E99E-A46A-4726-8291-A82658CA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AB81B-3091-4D91-AF53-47B000752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C8673-B898-4EA3-9B5D-C9CBC070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F4BD01-0928-4355-AA42-3496D78D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F032C-B966-42B8-8798-EC8AD7F41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17680F-923B-467E-AD45-C2B52E11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305010-D99D-4668-8816-B76C92FB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8DB524-AD2D-4695-A90B-79F60FEC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A2978E-C794-41A7-B2B7-6D6037421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08DCC-0A93-455F-9FF3-E63E6E22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D32CB-B8CD-4343-B665-EE48ECBB4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B1B14-82C7-431D-B3E6-FABB756AC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7526E1-FC1A-441B-A966-7177EC80E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587036-A89A-41C7-9D66-50ADC6AC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3032B9-D851-455F-81B7-0E7F5A32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8C3DED-2397-4E97-9FAD-BB3CC75C4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2C78EF-3B84-49ED-B6C1-648D6822E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BD840-A7DD-48AD-B833-2A30F741E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F19F22-E291-4391-AA2B-18B29B56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6600-9778-4700-92AF-42EF6FC3A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0AB64F-80E0-4F75-94C3-99EE111E9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57F8F3-B802-4C4D-9E17-79FDF317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D9EE7A-5BCA-4081-8555-0DF72C18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2F0A05-BC77-4C1B-935E-7CD53968A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E5EDAAD-022A-462A-9A51-ECB4A0A9D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29B3A3-722D-4CFE-9E3F-5AC206BEA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5C442C-7D11-40C5-8907-E7CC5AFF5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C66004C-34FE-4FA1-BD48-CD37ED696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3840E0-57EA-44CB-928E-889F01A87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E6CD75-AE20-4103-86EE-E3F9D3ADE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F89563-6E13-4EB9-8663-0559A9C44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6BD0D-F8D7-4AA0-825A-751534A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DA4EDB-0365-4CE9-B772-D2185FC9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40999E-8496-453B-BFD1-F3B8EF96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0F0EB7-F72C-412F-AF37-274C6D237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59FCE4-DEE2-4E8A-91E2-A9EEBA9D9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99AF46-AEE0-4D38-BA7A-F4E4EE2D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8682A-668D-44EE-8096-50E47C27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ADCE1-A557-4AD9-9871-EE8897B10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3C170F-810D-41FD-A4DF-B8AD9460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CCE24-ACA5-4244-8C49-8B338812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49F057-F602-4F31-BB58-2928E3C94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F741EA-A99D-462C-BBC6-5177F32B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974B9C-4359-4E0B-8526-634E0275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77D700-A269-42B0-860B-69EE50B4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7572B0-CAA7-489D-BB38-0153A27E5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64D072-309E-46C6-8502-167A3C7F8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2F3FC5-C6D0-4DA1-8478-FEA08F1BF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64A92A-E385-4ADA-8E99-FC30997F1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B191E3-C096-4C02-A486-8D60B2AE3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DE5716-8924-4897-8F60-85A577911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1FCB272-4239-477E-AEDA-6FD7DDA7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2E4B961-02D5-4E97-B57A-3E70649ED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DE3BCB-B37B-4676-B9B8-57E10A1A5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9AA308-DA86-4EE4-BBA8-448DE3E60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73DD27-F7C8-4F28-B17F-A91F1D92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FAF9F0-88A7-4174-85A0-57739B49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623B87-E0DD-4565-BDA5-8FC368EF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FE5DEC-5CB8-49EA-8E46-92018BCB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9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9A9619-E567-4380-9F34-041C62612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5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66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542A8-4460-4EF4-B099-AB1856B56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35DDDC-1DE9-444E-9D4F-B7193AE3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493CA4-2240-4B2E-A0EC-4DBB68A5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401F42-72E2-4D5E-A557-E3493FE7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514DD0-17D4-4F9B-AF27-F324554B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6151E4-AAE8-46BC-8B44-0AF66487E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3C1E28-BBE4-4693-A2CA-062E27B1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316FCB-E236-4F29-B152-9B0D48B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D27C6A-1C24-475C-A1EA-4F8D8CA03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89F807-6510-4C72-91A1-8F6E3F30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7D716-8005-4DEB-8813-5ECAF7EF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DD110A6-74C5-446F-A7CE-F26C2193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F89F4-07DB-4776-A4FF-2ADDB584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E53620-784A-4F62-B070-FAAD2045B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774E5C-CBAD-40FD-BA6A-07D0506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DC1DC9-8FF6-46C0-A717-8DB22353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9630A7-2A6D-47FA-BAEE-42D37E59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8179AC-15F1-4BA8-90BF-DF605754C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3A50-FF44-412C-8CBF-EB2355E8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7856B6-4295-440A-95B9-1E4B58617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192A6-67CF-458C-B56A-CDE0D81D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323E82-C51C-42A9-A904-DF355A8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F6310D-8603-4C06-9C4D-D9603275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F465CE-5D00-4501-B9E0-CE6BDB92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AE0DDD-4B6B-4F4E-A2C9-60A31B29B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6A0C1-A959-4C4F-A908-CA4130CEA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E811EC-937B-465E-B074-081513A5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D15B1D-A5B9-4C64-A288-32B28732C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2A8F6-AA0B-4313-85B3-0B7A7811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A7DD-A0EA-498A-A143-7618B2E43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7B4DE-C904-4463-8C0B-F32BE4AB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9C9A80-F9C0-4D88-A343-FE0332CA0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E5F135-8E90-4E4B-A397-BB06CA24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85378-C682-4D06-A395-9B1AE2DB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DFABE7-6063-4173-A9EB-373AE3F0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2C358-CC14-4F71-8321-2022C3EC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2F548B-7D2F-4AEF-ACDA-3BEB1EFF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128FC57-4BC1-4D36-8546-DAB169564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D22215-3A8B-45E6-9E7C-581FFB6C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53A-20A6-4B20-95FB-C924E9ED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D2A-E19A-434E-8CDD-8949BCC37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25A67-6673-4994-866B-946B8AC60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CBD491-0DAD-47DC-BB96-9BBEDBEB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9BDA4-8F40-4B2B-BD8F-2064E7918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322A48-31BA-47DA-8699-1E19D712A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F60EB7-C735-442D-AF58-4C656185F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B8AC2D-147B-4DC1-B0F5-FC4035706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E1C41D6-B563-4B1A-9386-306D3520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0384FF-8E87-4E68-8A70-928EC2971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0F01A9C-DBB5-4FBD-9201-FB7C1A4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2B9-F0B6-43B3-963C-BEE5A3F9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E8CAEC-9941-4B77-BFA2-3D36029E8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B6CE18-5957-4D24-BC31-5D3943F5C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9FC5FE-026C-4815-ADC6-0759CF84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16FE86-760E-4587-9142-FE06E58AE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D8F6D2B-E28B-4911-8AF2-4D4479851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70DFD05-9EE3-4288-A717-1410903B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D1EFE8C-DF73-4CD5-8020-76C27248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789496-0C2C-49CF-BA40-C4EDEA28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9975164-FFFE-4F3A-9A82-DBAF441F1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B22199-FAAF-4196-8F73-74BE53D8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718-BF5C-48F6-B886-17C3D621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12BE249-44E8-4866-A39E-95B6718F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4BB81A5-583C-41D1-9B8A-83AE70D7A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A35179-1186-4763-A948-31C192F0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A79FA53-EA81-4C1F-B842-9DC46A855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1284799-AA65-42F3-98E8-C811588AA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855FF5-F3C2-4B35-9540-F95D8EDF8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21DE3-96B8-4A99-90C1-A2EFE4AFA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D1071B2-F066-4D92-9D2A-65F1819D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2337CE0-0CA0-4495-BA5C-DAAF1D8B3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83F8606-24BD-4570-BD45-D5625C65F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009-EA07-46B1-8CC2-611CA809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98600" y="484200"/>
            <a:ext cx="7556400" cy="51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B3D43F-103D-4498-84E4-DF3397D46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901BCC-0BDB-4C35-AFA4-D69AE721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C7D6DB4-C55D-4CCD-AC16-6628EA60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A83CD6D-D36C-4156-A332-AF54E28A5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8600" y="4146480"/>
            <a:ext cx="755640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21F9891-AB45-486B-AFD2-5365E0830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370760" y="19810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9860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370760" y="4146480"/>
            <a:ext cx="36874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89D2353-76AC-4F36-8F46-5DD09EB8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05352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608440" y="19810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9860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05352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608440" y="4146480"/>
            <a:ext cx="243288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A37BBDD-3F0B-49DB-8027-964BBE81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5EB73A-3F5B-4A74-8D5D-E42C9EDFB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AE7AAC-47F8-417E-9F79-F081EEDF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4300A29-4013-4355-A0F5-A60A78D86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B23D0-2841-4DEA-90A5-06C3669D7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3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dt" idx="2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ftr" idx="2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sldNum" idx="2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E46DC-7ADD-497C-8AB3-91F2A79056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6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8E8A-DD5D-4CAC-9818-C6C659ADC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9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 type="dt" idx="32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 type="ftr" idx="33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 type="sldNum" idx="3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CC98C-2098-4F5C-A517-4D30A23D89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 type="dt" idx="3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 type="ftr" idx="3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 type="sldNum" idx="3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E71C-1C8F-48C0-8571-7C26910147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6"/>
          <p:cNvSpPr/>
          <p:nvPr/>
        </p:nvSpPr>
        <p:spPr>
          <a:xfrm>
            <a:off x="282600" y="228600"/>
            <a:ext cx="345132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4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8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9"/>
          </p:nvPr>
        </p:nvSpPr>
        <p:spPr>
          <a:xfrm>
            <a:off x="3859200" y="6423120"/>
            <a:ext cx="3316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6" name="TextBox 7"/>
          <p:cNvSpPr/>
          <p:nvPr/>
        </p:nvSpPr>
        <p:spPr>
          <a:xfrm>
            <a:off x="398952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0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1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5B6D-2937-4E27-B114-2FB006437D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6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49" name="Rectangle 7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0" name="TextBox 8"/>
          <p:cNvSpPr/>
          <p:nvPr/>
        </p:nvSpPr>
        <p:spPr>
          <a:xfrm>
            <a:off x="326880" y="463248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 type="dt" idx="4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 type="ftr" idx="4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 type="sldNum" idx="4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2B3C-644C-4D5D-B428-3BA2DA9CF6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6"/>
          <p:cNvSpPr/>
          <p:nvPr/>
        </p:nvSpPr>
        <p:spPr>
          <a:xfrm>
            <a:off x="282600" y="228600"/>
            <a:ext cx="6386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3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4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46"/>
          </p:nvPr>
        </p:nvSpPr>
        <p:spPr>
          <a:xfrm>
            <a:off x="5211720" y="6235200"/>
            <a:ext cx="1349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47"/>
          </p:nvPr>
        </p:nvSpPr>
        <p:spPr>
          <a:xfrm>
            <a:off x="380880" y="6235200"/>
            <a:ext cx="46483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4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B02C1-3251-41BF-9EB7-3D3CB4961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Rectangle 6"/>
          <p:cNvSpPr/>
          <p:nvPr/>
        </p:nvSpPr>
        <p:spPr>
          <a:xfrm>
            <a:off x="282600" y="228600"/>
            <a:ext cx="423540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7" name="TextBox 7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8" name="Rectangle 8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39" name="Rectangle 9"/>
          <p:cNvSpPr/>
          <p:nvPr/>
        </p:nvSpPr>
        <p:spPr>
          <a:xfrm>
            <a:off x="4624560" y="453564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9"/>
          </p:nvPr>
        </p:nvSpPr>
        <p:spPr>
          <a:xfrm>
            <a:off x="3048120" y="6235200"/>
            <a:ext cx="1347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50"/>
          </p:nvPr>
        </p:nvSpPr>
        <p:spPr>
          <a:xfrm>
            <a:off x="380520" y="6235200"/>
            <a:ext cx="2590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5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650EA-3BB2-4459-8FA6-EB9DCCAB58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2" name="TextBox 7"/>
          <p:cNvSpPr/>
          <p:nvPr/>
        </p:nvSpPr>
        <p:spPr>
          <a:xfrm>
            <a:off x="4749840" y="3370320"/>
            <a:ext cx="220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70b8"/>
                </a:solidFill>
                <a:latin typeface="Rockwell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 type="dt" idx="52"/>
          </p:nvPr>
        </p:nvSpPr>
        <p:spPr>
          <a:xfrm>
            <a:off x="7391520" y="6423120"/>
            <a:ext cx="153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 type="ftr" idx="53"/>
          </p:nvPr>
        </p:nvSpPr>
        <p:spPr>
          <a:xfrm>
            <a:off x="4190760" y="6423120"/>
            <a:ext cx="300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787" name="PlaceHolder 5"/>
          <p:cNvSpPr>
            <a:spLocks noGrp="1"/>
          </p:cNvSpPr>
          <p:nvPr>
            <p:ph type="sldNum" idx="54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6F44F-614C-47D4-A3F9-B20E1C0242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2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4624560" y="228600"/>
            <a:ext cx="2057400" cy="2038320"/>
          </a:xfrm>
          <a:prstGeom prst="rect">
            <a:avLst/>
          </a:prstGeom>
          <a:solidFill>
            <a:srgbClr val="a3a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6802560" y="2378160"/>
            <a:ext cx="2057400" cy="2038320"/>
          </a:xfrm>
          <a:prstGeom prst="rect">
            <a:avLst/>
          </a:prstGeom>
          <a:solidFill>
            <a:srgbClr val="330f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5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 type="dt" idx="55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 type="ftr" idx="56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 type="sldNum" idx="57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F2B8-2741-4544-9537-9916775B65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Rectangle 6"/>
          <p:cNvSpPr/>
          <p:nvPr/>
        </p:nvSpPr>
        <p:spPr>
          <a:xfrm>
            <a:off x="8166240" y="282600"/>
            <a:ext cx="685800" cy="3016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8" name="TextBox 7"/>
          <p:cNvSpPr/>
          <p:nvPr/>
        </p:nvSpPr>
        <p:spPr>
          <a:xfrm rot="16200000">
            <a:off x="8591400" y="5634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8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9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0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5D9A-7A31-455D-BE9A-1928F9788A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6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7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8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676F-A5C7-4144-8C0C-88AAE4F008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2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9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0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1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BF85-CF17-401F-B2D2-E2F63F1256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6"/>
          <p:cNvSpPr/>
          <p:nvPr/>
        </p:nvSpPr>
        <p:spPr>
          <a:xfrm>
            <a:off x="282600" y="228600"/>
            <a:ext cx="4235400" cy="418788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6802560" y="228600"/>
            <a:ext cx="2057400" cy="2038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6" name="Rectangle 8"/>
          <p:cNvSpPr/>
          <p:nvPr/>
        </p:nvSpPr>
        <p:spPr>
          <a:xfrm>
            <a:off x="4624560" y="2378160"/>
            <a:ext cx="2057400" cy="203832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7" name="TextBox 9"/>
          <p:cNvSpPr/>
          <p:nvPr/>
        </p:nvSpPr>
        <p:spPr>
          <a:xfrm>
            <a:off x="425520" y="174600"/>
            <a:ext cx="41256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2"/>
          </p:nvPr>
        </p:nvSpPr>
        <p:spPr>
          <a:xfrm>
            <a:off x="4800600" y="6426360"/>
            <a:ext cx="1231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3"/>
          </p:nvPr>
        </p:nvSpPr>
        <p:spPr>
          <a:xfrm>
            <a:off x="6311520" y="6426360"/>
            <a:ext cx="261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8800" y="228600"/>
            <a:ext cx="8201160" cy="634536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19" name="TextBox 7"/>
          <p:cNvSpPr/>
          <p:nvPr/>
        </p:nvSpPr>
        <p:spPr>
          <a:xfrm>
            <a:off x="2003400" y="3111480"/>
            <a:ext cx="260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0" name="Rectangle 8"/>
          <p:cNvSpPr/>
          <p:nvPr/>
        </p:nvSpPr>
        <p:spPr>
          <a:xfrm>
            <a:off x="285840" y="228600"/>
            <a:ext cx="212760" cy="6345360"/>
          </a:xfrm>
          <a:prstGeom prst="rect">
            <a:avLst/>
          </a:prstGeom>
          <a:solidFill>
            <a:srgbClr val="99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14"/>
          </p:nvPr>
        </p:nvSpPr>
        <p:spPr>
          <a:xfrm>
            <a:off x="658440" y="6248520"/>
            <a:ext cx="1474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15"/>
          </p:nvPr>
        </p:nvSpPr>
        <p:spPr>
          <a:xfrm>
            <a:off x="2285640" y="6248520"/>
            <a:ext cx="5638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16"/>
          </p:nvPr>
        </p:nvSpPr>
        <p:spPr>
          <a:xfrm>
            <a:off x="8305560" y="6248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1E6F-1FDB-4024-A11C-C556D7C9DD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6"/>
          <p:cNvSpPr/>
          <p:nvPr/>
        </p:nvSpPr>
        <p:spPr>
          <a:xfrm>
            <a:off x="8210520" y="282600"/>
            <a:ext cx="64152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3" name="Rectangle 7"/>
          <p:cNvSpPr/>
          <p:nvPr/>
        </p:nvSpPr>
        <p:spPr>
          <a:xfrm>
            <a:off x="8067600" y="282600"/>
            <a:ext cx="92160" cy="16002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7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8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9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79F4-CE03-4B73-BE0B-5FF865B096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6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0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1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2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F0214-9EFE-47BE-8671-349DDC17F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Box 6"/>
          <p:cNvSpPr/>
          <p:nvPr/>
        </p:nvSpPr>
        <p:spPr>
          <a:xfrm>
            <a:off x="223920" y="228600"/>
            <a:ext cx="2602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870b8"/>
                </a:solidFill>
                <a:latin typeface="Rockwel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8166240" y="282600"/>
            <a:ext cx="685800" cy="1600200"/>
          </a:xfrm>
          <a:prstGeom prst="rect">
            <a:avLst/>
          </a:prstGeom>
          <a:solidFill>
            <a:srgbClr val="66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Click to edit the title text format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498600" y="1981080"/>
            <a:ext cx="7556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1" marL="4572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2" marL="6858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3" marL="914400" indent="-228600">
              <a:spcBef>
                <a:spcPts val="2001"/>
              </a:spcBef>
              <a:buClr>
                <a:srgbClr val="b870b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4" marL="1143000" indent="-228600">
              <a:spcBef>
                <a:spcPts val="2001"/>
              </a:spcBef>
              <a:buClr>
                <a:srgbClr val="6633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5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  <a:p>
            <a:pPr lvl="6" marL="1143000" indent="-228600">
              <a:spcBef>
                <a:spcPts val="20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Rockwel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Rockwel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dt" idx="23"/>
          </p:nvPr>
        </p:nvSpPr>
        <p:spPr>
          <a:xfrm>
            <a:off x="6794640" y="64231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ftr" idx="24"/>
          </p:nvPr>
        </p:nvSpPr>
        <p:spPr>
          <a:xfrm>
            <a:off x="201600" y="6423120"/>
            <a:ext cx="6122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Rockwel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sldNum" idx="25"/>
          </p:nvPr>
        </p:nvSpPr>
        <p:spPr>
          <a:xfrm>
            <a:off x="8305560" y="2430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1C1F-F9E0-48CC-AEB9-E39D128ABF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800600" y="4624560"/>
            <a:ext cx="4038480" cy="93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66"/>
                </a:solidFill>
                <a:latin typeface="Rockwell"/>
              </a:rPr>
              <a:t>Les Verbes Irréguliers</a:t>
            </a:r>
            <a:endParaRPr b="0" lang="en-US" sz="2800" spc="-1" strike="noStrike">
              <a:solidFill>
                <a:srgbClr val="663366"/>
              </a:solidFill>
              <a:latin typeface="Rockwel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800600" y="5562360"/>
            <a:ext cx="403848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Rockwell"/>
              </a:rPr>
              <a:t>Au présent</a:t>
            </a:r>
            <a:endParaRPr b="0" lang="en-US" sz="1400" spc="-1" strike="noStrike">
              <a:solidFill>
                <a:srgbClr val="595959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Faire ET Alle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FAIRE - TO DO/TO M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ALLER – TO 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f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f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fa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all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fa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all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f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vo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ouvoir ET Voulo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OUVOIR – TO BE ABLE 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VOULOIR – TO WA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p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v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p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ve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pe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ve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ou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l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ou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l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peu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veul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ortir ET Part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7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ORTIR – TO GO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ARTIR – TO LEAV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p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s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p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s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p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sor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par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sort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part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sor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par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Devoir ET Ven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19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DEVOIR – TO HAVE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VENIR – TO CO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d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vi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d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vie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d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v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de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ven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de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ven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oi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ien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Savoir ET Connaît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498600" y="1981080"/>
          <a:ext cx="7556400" cy="286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64260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SAVOIR – TO KNOW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Rockwell"/>
                        </a:rPr>
                        <a:t>SOMETH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CONNAÎTRE – TO KNOW </a:t>
                      </a:r>
                      <a:r>
                        <a:rPr b="0" lang="en-US" sz="1800" spc="-1" strike="noStrike" u="sng">
                          <a:solidFill>
                            <a:srgbClr val="ffffff"/>
                          </a:solidFill>
                          <a:uFillTx/>
                          <a:latin typeface="Rockwell"/>
                        </a:rPr>
                        <a:t>SOMEO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11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s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con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sai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conna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1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sa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connaî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1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sa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connais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36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sa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connaiss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044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sa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connais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Lire ET Di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LIRE – TO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DIRE – TO S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d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l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d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l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d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l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dis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lis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dit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li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dis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Prendre ET Mettre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5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PRENDRE – TO TA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METTRE – TO P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pr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m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pre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me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pre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pren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mett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pren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mett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prenn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met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8600" y="484200"/>
            <a:ext cx="7556400" cy="11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3366"/>
                </a:solidFill>
                <a:latin typeface="Rockwell"/>
              </a:rPr>
              <a:t>Écrire ET Voir</a:t>
            </a:r>
            <a:endParaRPr b="0" lang="en-US" sz="3600" spc="-1" strike="noStrike">
              <a:solidFill>
                <a:srgbClr val="663366"/>
              </a:solidFill>
              <a:latin typeface="Rockwell"/>
            </a:endParaRPr>
          </a:p>
        </p:txBody>
      </p:sp>
      <p:graphicFrame>
        <p:nvGraphicFramePr>
          <p:cNvPr id="927" name=""/>
          <p:cNvGraphicFramePr/>
          <p:nvPr/>
        </p:nvGraphicFramePr>
        <p:xfrm>
          <a:off x="498600" y="1981080"/>
          <a:ext cx="7556400" cy="2595600"/>
        </p:xfrm>
        <a:graphic>
          <a:graphicData uri="http://schemas.openxmlformats.org/drawingml/2006/table">
            <a:tbl>
              <a:tblPr/>
              <a:tblGrid>
                <a:gridCol w="3778200"/>
                <a:gridCol w="3778200"/>
              </a:tblGrid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ÉCRIRE – TO WR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Rockwell"/>
                        </a:rPr>
                        <a:t>VOIR – TO SE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3366"/>
                    </a:solidFill>
                  </a:tcPr>
                </a:tc>
              </a:tr>
              <a:tr h="37008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’éc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Je v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éc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Tu vo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écr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/Elle/On/Qui vo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écriv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N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y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  <a:tr h="3715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écriv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u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ye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369720"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écriv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101880" rIns="10188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Ils/Elles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Rockwell"/>
                        </a:rPr>
                        <a:t>voi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Rockwell"/>
                      </a:endParaRPr>
                    </a:p>
                  </a:txBody>
                  <a:tcPr anchor="t" marL="101880" marR="101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2:54:05Z</dcterms:created>
  <dc:creator>Biega, Sarah</dc:creator>
  <dc:description/>
  <dc:language>en-US</dc:language>
  <cp:lastModifiedBy>Biega, Sarah</cp:lastModifiedBy>
  <dcterms:modified xsi:type="dcterms:W3CDTF">2012-09-18T20:00:57Z</dcterms:modified>
  <cp:revision>5</cp:revision>
  <dc:subject/>
  <dc:title>Les Verbes Irréguliers</dc:title>
</cp:coreProperties>
</file>